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4BF-723C-4581-B654-93E7470F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431-0FD7-4CEC-87A8-C9B28BB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123-772E-4D2C-807E-549CB17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F6B-EFB6-42AD-9E84-A6428F89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047-0C44-4B21-A00D-8718442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192-C41D-4B70-980F-AD65DD5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A74-51C5-4101-869D-259BE64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EA9-AB74-454C-8EF4-8516F1CA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79D-BFA5-429C-A99C-67A84F2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9CF-AD52-492C-A383-362AC12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ADC-0399-400E-9A42-C2025D7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1AC-0AC2-46C1-9E2E-BB47BED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DF72-AA06-4BC3-A349-3E75D014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ardsci.com/product.asp_Q_pn_E_IG0009334_A_Polyhedral+Alcohol+Burner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yle Herd and Shannon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371600"/>
            <a:ext cx="7696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mperature Differences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87956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629400" y="4724280"/>
            <a:ext cx="1905120" cy="1816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ungsu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ungsuh"/>
              </a:rPr>
              <a:t>Purpose- How does the temperature change when the different temperatures of water are added to cold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ungsu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ungsuh"/>
              </a:rPr>
              <a:t>Hypothesis- The room temperature water will turn cold and the hot water will turn room temperatu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olyhedral Alcohol Burn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5181480"/>
            <a:ext cx="2209680" cy="152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Variables and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pendent Variable- The temperature of the water being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endent Variable- The mixed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1905120"/>
          <a:ext cx="3886200" cy="223020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 of Room Temperature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 of Hot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00ff00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doni MT Black"/>
              </a:rPr>
              <a:t>Constants and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Constants- volume, temperature 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Procedure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1. Measure 20mL of cold water, water, and room temperature water and put each temperature water in a separate b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2.Set up the temperatur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3.To make the water become hot, place it over the alcohol burner until it is at 60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4.Mix the hot and cold water and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5.Mix the room temperature water with the cold water and record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HRI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648320" cy="47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5181480" y="1260360"/>
          <a:ext cx="3505320" cy="550404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143000"/>
              </a:tblGrid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ater Tem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ial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ial   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ix of hot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ix of room temp. and co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470560" y="293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During this lab, we expected the mix of the cold and hot water to be room temperature, but it was higher than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We thought the mix of the room temperature and the cold water would be a low temperature, but it was higher than we th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The hot and cold water mix was near what we expected ,but the room temperature and cold mix didn’t have a big change like we thought it w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21:22Z</dcterms:created>
  <dc:creator>default</dc:creator>
  <dc:description/>
  <dc:language>en-US</dc:language>
  <cp:lastModifiedBy>default</cp:lastModifiedBy>
  <dcterms:modified xsi:type="dcterms:W3CDTF">2008-01-04T15:42:31Z</dcterms:modified>
  <cp:revision>13</cp:revision>
  <dc:subject/>
  <dc:title>Slide 1</dc:title>
</cp:coreProperties>
</file>